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3AE-EDA9-43A1-8F54-A56B62BA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1A6-26A1-4145-BF11-8FF56027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E6C-C805-402B-9706-EC01A48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483-3977-4F23-8508-1B5D9BCD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83F-B539-4083-A45A-EE419B22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8CA-0911-4350-9392-739B762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505-AD47-4CF0-ABAE-9DCB7E6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281-092C-47D6-AA38-297133B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F8C-4D55-4A92-AAB3-2B91246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634-977B-4CCC-B3BE-69F445E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C31-390B-407F-9A74-B88411F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92D-41A6-405E-9D85-01635AA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D2A-2481-4746-8D82-7DA576DB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yli Ca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3815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roblem is What materials work best to make goop, and can it go quickly from a liquid to a solid and then back to a liquid when not moving. The reason I picked this project is because I thought goop was an interesting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is that laundry borax would work the best because when dealing with powder laundry soap I have noticed if you get it damp it becomes sticky. So I think if you add glue it will be more of in a solid state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undry B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la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water or until covering b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ablespoons of whit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 St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corn st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ablespoons of whit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all materials together and then move each mixture and then record which mixture went to the solid form the fas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end result was that laundry borax did not work as I thought it would. Corn starch came out the best and yes it did go from a liquid to a solid. My hypothesis was wrong and I think that is was because the corn starches was smoother so it grouped together easi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is that my hypothesis was wrong and that Corn starch worked b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cifun.chem.wisc.eduhomeexptsgluep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3:33:59Z</dcterms:created>
  <dc:creator>USD376</dc:creator>
  <dc:description/>
  <dc:language>en-US</dc:language>
  <cp:lastModifiedBy>USD376</cp:lastModifiedBy>
  <dcterms:modified xsi:type="dcterms:W3CDTF">2010-05-04T13:36:54Z</dcterms:modified>
  <cp:revision>2</cp:revision>
  <dc:subject/>
  <dc:title>Goop</dc:title>
</cp:coreProperties>
</file>